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042-D9FD-4183-8144-BF742941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F27-B37F-4C93-BDDA-65565C26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F6C6D2-591D-4175-B859-031CEF68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93AF9D-08DE-4568-8920-A3D50523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E0FB1C-40CA-456F-A769-EF5CE0E2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385BE5-77CD-47D6-B788-95459ECA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C4E9BE-7B1B-428D-9751-663263B0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F69583-56F8-42F7-A065-B3A74108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0DA7A5-9A86-46D7-8019-D3F5DE6C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216DB9-AB1B-426A-BFC6-B505A646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BBD83E-2AA9-4DCA-B736-1385DCEF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DC1AB-D85D-43F0-899B-1EBAF522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391-6C10-4702-8910-FD9E961C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7A586-1567-45CA-848C-32E393D2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50705-D607-4092-AA6C-6CE29E1C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185AC-EA94-4BBC-8C7D-F22C79FD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0168A-29E5-4184-8367-308DABA5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D9C60-6204-48B4-B93C-267C684A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6AE56-2D63-4F32-9F2C-3D38EAC8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D3F12-59AD-4609-81E4-A741AAE5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B75F4-0429-4958-8D75-733BDCD6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17725-7CDC-4675-B780-D086E574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F1C08-B848-45F2-A176-0ABD067A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6294-7FF3-4095-B514-60089F5C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B0C14-D160-46BA-AA69-B6D0C23A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42435-6FA9-472B-945F-65377203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5043A-A14A-40F6-92C6-C5F32C14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B8751-4A73-477E-A882-87BDA358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8BBEA-E4EA-4F2C-90A5-6DF7D2C7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4DF6A-3A8A-43D1-99A6-6090194B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0F819-1823-48B6-A425-623FDBE0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46DAE-73E3-45B5-9DA2-209C3D18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FC6C5-ECA5-457F-875A-313B0C57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CF0AC-AFE7-4684-8CA5-52B85C97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BA35-624F-4CFE-8F43-32310BC0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D7EB8-0951-47BD-A5B3-5FD33B1E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AA472-7739-4E24-BCE2-281DBA0D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3613A-C262-442D-BE4D-80D20DC6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1D141-9E94-4AE6-A6CE-2324EC7B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70F0A-A441-4B78-883B-0A7CCEA2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04CCB-64DB-4E0E-986A-EC7B8734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A1666-622B-4816-99D6-00794377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4124A-D568-4A60-BA8E-483A60C3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C1B7C-55D5-46F5-A8D0-C9B08082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FE75B-6FEC-4F8A-9F20-4C7B6A7B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11DE-C462-40E1-863D-2C56981F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44303-FA96-445B-BCB5-25D7CCEF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C0DC2-BF34-4D11-9720-78D7320C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454B7-157A-4B43-B1B3-469867E7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C7250-CDE7-43B3-AA40-3A1EEDB3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09CEB-74E4-4CAB-BDA7-88095513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1813-0702-46B7-8660-AA65D03F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495B-766B-40BD-B1B5-DDA8B085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A964-F06B-4726-B490-5A8524A5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1280-510C-4C2F-835D-A03D69DF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B342-D51B-42C3-82B4-610A136C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743A-381D-4716-A0E2-3EE5ECA5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792B-0330-4AF6-BE49-5B637D2F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64E7-6EFA-4059-8C64-AC891D54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1AA2-6173-46B6-8F95-1A6E9FD5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0886-D3DC-4518-8CD6-2F56D349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8512-C54C-4E51-8A03-66B3AE55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10B2C-84FC-4433-8062-7238770C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0F286-D8FA-4881-8A36-4D9B1833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0B53D-5AD7-43FE-8AF3-D1AABDF3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DB645-17BE-4AEB-A01D-144CBCA9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B0280-514B-4AE9-803D-00F5BFC9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5A0-1FF1-45DF-9AE0-45E21B99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D6A3B-7B1F-456F-9986-9679BD98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3E4CD-A2D0-4453-8FF6-61A64D1B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59FF1-8406-42D4-B4A1-B503F353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06064-0FB5-4684-99B6-C84A9ED1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EE0AA-5770-4C82-997E-0683A4FF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CFB3B-24E6-47BE-8A23-17025D54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5060A-3FF0-49AD-9EC6-F9C52ABB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82EF3-73DF-444C-8640-C8C451ED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E2E5F-AFAA-4687-906C-8819D9E9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BBD96-F116-41FD-8482-2189ECE1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D1D-4A65-491B-A696-33B4534B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10EB4-A212-4A6A-A20D-A136D783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CB159-22AC-4547-835B-EF94C8B4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ABF35-F87B-45C7-922A-F8ED2346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2DB89-AEA0-4C4B-8CE9-0E935592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D0F5C-94E5-41A5-9915-F5837539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7C8D5-5256-4F4B-964B-A3706F01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9C54C-EAFB-420B-87BE-AFF667F1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7C6A2-9D2C-44EA-A0BA-FC51F6A2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B24BE-E5D6-4D7C-A5C5-250642C8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53593-7A5A-46F2-B2BD-C7B56059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7630-85FB-4441-BEE2-0E16A6BA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8D057-E4EB-46DA-A4AD-EB5D5C88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84B6E-968F-4840-8CCE-9139E577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4EACD-9B6E-4DAC-B63E-B79999AC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B4151-E278-477E-AA83-A9AD07DC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16ABD-9C85-48B9-A7CB-B0F0A1C6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A654F-F73E-4605-9D68-2F85F5DE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85755-4C81-4259-BBC0-DEF27AB8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7CE2A-2523-4CD5-A45E-44233252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638F1-FB21-4570-A9F1-231314A5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0C5BF-992F-4A05-BA36-0ADEBFF4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B73-4301-4E11-980E-634CEA41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AA541-FC1A-4728-8A42-6CF750F2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68407-74FF-4837-ADA4-22FCA8B2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F0468-A096-4D4A-A833-68A57CB9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BD4CA-4FD5-411D-83B1-D324E020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21949-4E1C-42DC-9124-E06CA0B5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D3033-2DA0-4F09-8686-0FEB0905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DDC84-59C0-45B7-B5AF-71AD087D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DA585-F0BE-40ED-B99D-29E05DE0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B5166-512D-4412-84E1-C1B77D39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C39E1-A815-469C-8AFE-3567AD0A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4F06-8D90-4FBF-ADEF-4E04CF61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EC053-7102-49DB-8DE4-4C2815F7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53CEA-3074-4EA9-8668-6A053D31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1CFC7-DAE8-4246-A056-B61E1D34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D0920-B49C-40FE-B7C3-E116DD9B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0A02B-33BC-4BAF-A62E-AB76C971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A6DF8-3F8E-434D-ADA3-F0D256F9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8D7D9-21C7-4B31-AC80-7CC853C7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11422-2819-44E1-920A-57A5E4E7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4F6DB-1403-4AF0-B876-7C1581AE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93CB6-851E-4107-A37D-33261297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426-6D6B-48A7-B8E3-21B18EBA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DEC82-7DE8-46BA-8EAD-B51AF904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D7496-3B1E-4F5D-83DA-3766B83E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50BA0-B06A-4730-BCAB-37748E62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B73AA-1047-4E68-B647-62E873DA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1B548-59CE-469E-8F24-601425D1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D35A99-8CE1-4DF8-95C9-2E9941F4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FF1304-8355-41D8-A595-F2DFF3B1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646D04-9E88-4C03-B484-4BFC9B88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CBEEC0-4B8A-4B0E-8D4F-3E36B515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8B0DBB-B0A9-4F08-B0BE-7EBE3160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6A5-A12D-4355-999C-8733CEB1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5FEFBB-5B48-427B-B15D-0608E50C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4C64A1-50FC-4FA0-92DE-50EA109A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043882-5E71-40C0-9962-235E857B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23D018-7DAC-4CB5-A8ED-418F15D7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0CB3DF-C5A0-42FE-8046-DD10FEC4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080EBC-787C-4EDE-8BD4-DC43E165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1856F8-DF10-401D-86E4-472ABC99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FB5E15-456B-43CA-9F6F-0055242C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7C772D-3CD4-4448-A6D8-65A1F519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3363B4-C0BE-4A15-8142-7C595146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B15D-475A-4859-9108-F455B1A5E2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E6AC-450B-405E-B581-52ACE47F7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4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63342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3E6D-8728-4D94-8075-94934383B1C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9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63342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9CE2-A5E1-4321-8608-BD0A80B92BD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9537-4CE5-4801-B221-D810F25F4AF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8C05-AD66-439F-8419-7C5FC5E4C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B849-FB77-498A-9259-5998D25FE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5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02F6-8B59-43C1-8FFD-0562D74BAE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4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FF44-8583-4820-B637-BA9224C0550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2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2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3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6EBD-A9D9-4553-B3FB-652B8E64C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8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8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9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35FF-807C-4773-A0CC-CF6E262C2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0ACE-BCF0-436B-AD02-A7AE31B01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file:///tmp/home/.config/libreoffice/4/user/gallery/frwrks0F.wav" TargetMode="External"/><Relationship Id="rId3" Type="http://schemas.microsoft.com/office/2007/relationships/media" Target="file:///tmp/home/.config/libreoffice/4/user/gallery/frwrks0F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j0074927.wav" TargetMode="External"/><Relationship Id="rId3" Type="http://schemas.microsoft.com/office/2007/relationships/media" Target="file:///tmp/home/.config/libreoffice/4/user/gallery/j0074927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file:///tmp/home/.config/libreoffice/4/user/gallery/j0075036.wav" TargetMode="External"/><Relationship Id="rId3" Type="http://schemas.microsoft.com/office/2007/relationships/media" Target="file:///tmp/home/.config/libreoffice/4/user/gallery/j0075036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file:///tmp/home/.config/libreoffice/4/user/gallery/MSj03884660000%5B1%5D.wav" TargetMode="External"/><Relationship Id="rId4" Type="http://schemas.microsoft.com/office/2007/relationships/media" Target="file:///tmp/home/.config/libreoffice/4/user/gallery/MSj03884660000%5B1%5D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audio" Target="file:///tmp/home/.config/libreoffice/4/user/gallery/MSj00749300000%5B1%5D.wav" TargetMode="External"/><Relationship Id="rId4" Type="http://schemas.microsoft.com/office/2007/relationships/media" Target="file:///tmp/home/.config/libreoffice/4/user/gallery/MSj00749300000%5B1%5D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stellar"/>
              </a:rPr>
              <a:t>What is the Study of geography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Geography is the study of the Earth and all its variet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There are 2 types of geograp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Physical: land, water, plants and animal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Human: peo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733920" cy="242424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5638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78" fill="hold"/>
                                        <p:tgtEl>
                                          <p:spTgt spid="9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56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6400"/>
                </a:solidFill>
                <a:latin typeface="comic"/>
              </a:rPr>
              <a:t>Super job!!!</a:t>
            </a:r>
            <a:endParaRPr b="0" lang="en-US" sz="60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6400"/>
                </a:solidFill>
                <a:latin typeface="Verdana"/>
              </a:rPr>
              <a:t>Now you know about the 5 themes of geography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6400"/>
                </a:solidFill>
                <a:latin typeface="Verdana"/>
              </a:rPr>
              <a:t>Are you ready to make a poster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6400"/>
                </a:solidFill>
                <a:latin typeface="Verdana"/>
              </a:rPr>
              <a:t>I hope so!!!!!!!!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6400"/>
                </a:solidFill>
                <a:latin typeface="Verdana"/>
              </a:rPr>
              <a:t>                             </a:t>
            </a:r>
            <a:r>
              <a:rPr b="0" lang="en-US" sz="4000" spc="-1" strike="noStrike">
                <a:solidFill>
                  <a:srgbClr val="c86400"/>
                </a:solidFill>
                <a:latin typeface="Verdana"/>
              </a:rPr>
              <a:t>Mr. 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11430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1678" fill="hold"/>
                                        <p:tgtEl>
                                          <p:spTgt spid="9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770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77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70"/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70" fill="hold"/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70" fill="hold"/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770"/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770" fill="hold"/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Copperplate Gothic Bold"/>
              </a:rPr>
              <a:t>The 5 themes of geography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/Environment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447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5942" fill="hold"/>
                                        <p:tgtEl>
                                          <p:spTgt spid="9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59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5934b"/>
                </a:solidFill>
                <a:latin typeface="Tahoma"/>
              </a:rPr>
              <a:t>Location</a:t>
            </a:r>
            <a:endParaRPr b="0" lang="en-US" sz="72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ing where a specific place is on the Ear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types of 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bsolu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specific place on the Ea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elativ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eral area on the ea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89040" y="1828800"/>
            <a:ext cx="3711600" cy="3743280"/>
          </a:xfrm>
          <a:prstGeom prst="rect">
            <a:avLst/>
          </a:prstGeom>
          <a:ln w="0">
            <a:noFill/>
          </a:ln>
        </p:spPr>
      </p:pic>
      <p:pic>
        <p:nvPicPr>
          <p:cNvPr id="96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2952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3901" fill="hold"/>
                                        <p:tgtEl>
                                          <p:spTgt spid="9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63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5934b"/>
                </a:solidFill>
                <a:latin typeface="Tahoma"/>
              </a:rPr>
              <a:t>Can you name each an absolute location and a relative location?</a:t>
            </a:r>
            <a:br>
              <a:rPr sz="4800"/>
            </a:br>
            <a:endParaRPr b="0" lang="en-US" sz="48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ahoma"/>
              </a:rPr>
              <a:t>YES YOU CAN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aa00"/>
                </a:solidFill>
                <a:latin typeface="Elephant"/>
              </a:rPr>
              <a:t>Place</a:t>
            </a:r>
            <a:endParaRPr b="0" lang="en-US" sz="66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includes those features and characteristics that give and area its own id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characteristic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1"/>
          <a:stretch/>
        </p:blipFill>
        <p:spPr>
          <a:xfrm>
            <a:off x="4495680" y="1952640"/>
            <a:ext cx="4191120" cy="393552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14479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3"/>
          <a:stretch/>
        </p:blipFill>
        <p:spPr>
          <a:xfrm>
            <a:off x="31240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7590" fill="hold"/>
                                        <p:tgtEl>
                                          <p:spTgt spid="9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9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2223" fill="hold"/>
                                        <p:tgtEl>
                                          <p:spTgt spid="9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aa00"/>
                </a:solidFill>
                <a:latin typeface="Perpetua Titling MT"/>
              </a:rPr>
              <a:t>place</a:t>
            </a:r>
            <a:endParaRPr b="0" lang="en-US" sz="66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aa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In terms of place is DuBois, PA the same as Denver, C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aa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Why or why not…Is anything the same? Is anything diffe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Footlight MT Light"/>
              </a:rPr>
              <a:t>Human/Environment Interacti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and why people change there surround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do people change the Earth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 it good/ba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the Earth change itself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1"/>
          <a:stretch/>
        </p:blipFill>
        <p:spPr>
          <a:xfrm>
            <a:off x="1544760" y="1782720"/>
            <a:ext cx="1861920" cy="182088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2"/>
          <a:stretch/>
        </p:blipFill>
        <p:spPr>
          <a:xfrm>
            <a:off x="304920" y="3860640"/>
            <a:ext cx="4190760" cy="231156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4674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179" fill="hold"/>
                                        <p:tgtEl>
                                          <p:spTgt spid="9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77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aa88a"/>
                </a:solidFill>
                <a:latin typeface="Copperplate Gothic Bold"/>
              </a:rPr>
              <a:t>Movement</a:t>
            </a:r>
            <a:endParaRPr b="0" lang="en-US" sz="72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a88a"/>
                </a:solidFill>
                <a:latin typeface="Stencil"/>
              </a:rPr>
              <a:t>The way people, ideas, and goods move around the Earth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a88a"/>
                </a:solidFill>
                <a:latin typeface="Stencil"/>
              </a:rPr>
              <a:t>How and why does this happe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4648320" y="1378080"/>
            <a:ext cx="4190760" cy="253836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4724280" y="3962520"/>
            <a:ext cx="2244960" cy="224460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858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7257" fill="hold"/>
                                        <p:tgtEl>
                                          <p:spTgt spid="9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77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770" fill="hold"/>
                                        <p:tgtEl>
                                          <p:spTgt spid="9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82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9ddcd"/>
                </a:solidFill>
                <a:latin typeface="Castellar"/>
              </a:rPr>
              <a:t>Regions</a:t>
            </a:r>
            <a:endParaRPr b="0" lang="en-US" sz="72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Regions are areas that are united together by one or more common characteristic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What is most of Brazil in South America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Rainfor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What makes it a region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7925040" cy="2362320"/>
          </a:xfrm>
          <a:prstGeom prst="rect">
            <a:avLst/>
          </a:prstGeom>
          <a:ln w="0">
            <a:noFill/>
          </a:ln>
        </p:spPr>
      </p:pic>
      <p:pic>
        <p:nvPicPr>
          <p:cNvPr id="986" name="" descr=""/>
          <p:cNvPicPr/>
          <p:nvPr/>
        </p:nvPicPr>
        <p:blipFill>
          <a:blip r:embed="rId2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20330" fill="hold"/>
                                        <p:tgtEl>
                                          <p:spTgt spid="9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9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01:55:51Z</dcterms:created>
  <dc:creator>dansnyder</dc:creator>
  <dc:description/>
  <dc:language>en-US</dc:language>
  <cp:lastModifiedBy>dansnyder</cp:lastModifiedBy>
  <dcterms:modified xsi:type="dcterms:W3CDTF">2006-08-31T13:28:42Z</dcterms:modified>
  <cp:revision>4</cp:revision>
  <dc:subject/>
  <dc:title>What is the Study of geography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